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000" spc="-1" strike="noStrike">
                <a:solidFill>
                  <a:srgbClr val="ffffff"/>
                </a:solidFill>
                <a:latin typeface="Arial Bold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7520" y="0"/>
            <a:ext cx="3798720" cy="23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Arial Bold"/>
              </a:rPr>
              <a:t>Click to edit the title text format</a:t>
            </a: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29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5294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52943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29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5294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29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5294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29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529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75960"/>
            <a:ext cx="6781680" cy="1522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Arial Bold"/>
              </a:rPr>
              <a:t>Click to edit the title text format</a:t>
            </a:r>
            <a:endParaRPr b="0" lang="en-US" sz="2200" spc="-1" strike="noStrike">
              <a:solidFill>
                <a:srgbClr val="376092"/>
              </a:solidFill>
              <a:latin typeface="Arial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403848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38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9240" indent="-228600">
              <a:spcBef>
                <a:spcPts val="601"/>
              </a:spcBef>
              <a:buClr>
                <a:srgbClr val="15294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9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9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7520" y="0"/>
            <a:ext cx="3798720" cy="23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hecking for Understanding in a Digital World</a:t>
            </a: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4640400" y="406440"/>
            <a:ext cx="4408200" cy="364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711680" y="1104840"/>
            <a:ext cx="4229280" cy="2184480"/>
          </a:xfrm>
          <a:prstGeom prst="rect">
            <a:avLst/>
          </a:prstGeom>
          <a:noFill/>
          <a:ln w="0">
            <a:noFill/>
          </a:ln>
          <a:effectLst>
            <a:outerShdw dist="63507" dir="1978164" blurRad="0" rotWithShape="0">
              <a:srgbClr val="1365a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ournal Samp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ou can remove the text from the journal entries that follow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317520" y="4889520"/>
            <a:ext cx="8483760" cy="1384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1803240" y="5168880"/>
            <a:ext cx="5829480" cy="838080"/>
          </a:xfrm>
          <a:prstGeom prst="rect">
            <a:avLst/>
          </a:prstGeom>
          <a:ln w="0">
            <a:noFill/>
          </a:ln>
          <a:effectLst>
            <a:outerShdw dist="38243" dir="1985501" blurRad="0" rotWithShape="0">
              <a:srgbClr val="808080">
                <a:alpha val="7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800280"/>
            <a:ext cx="8610480" cy="586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99072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4768920" y="1932120"/>
            <a:ext cx="31496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ong which places on a roller coaster ride does kinetic energy change to potential energy?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some other ways people can turn kinetic energy to potential energy?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energy ever become lost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0" y="800280"/>
            <a:ext cx="8610480" cy="586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0" y="99072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4921200" y="2465280"/>
            <a:ext cx="314964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w a diagram of a roller coaster showing when the roller coaster has the greatest potential energy and when it has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greatest kinetic energy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4"/>
          <a:stretch/>
        </p:blipFill>
        <p:spPr>
          <a:xfrm>
            <a:off x="1154160" y="1873080"/>
            <a:ext cx="2897280" cy="205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scovery Communications</dc:creator>
  <dc:description/>
  <cp:keywords/>
  <dc:language>en-US</dc:language>
  <cp:lastModifiedBy>Discovery Communications</cp:lastModifiedBy>
  <dcterms:modified xsi:type="dcterms:W3CDTF">2011-11-02T23:51:15Z</dcterms:modified>
  <cp:revision>1</cp:revision>
  <dc:subject/>
  <dc:title>PowerPoint Presentation</dc:title>
</cp:coreProperties>
</file>